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457-8664-43A6-896C-45019625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432-B7D9-4B8B-9402-2E6E67BE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A55-5589-42E9-AA14-53B8DE0C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47C-3B2B-49D4-A039-83332218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46DC-B7CA-4551-ADB3-D3F6CBB2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9138-3816-48DF-AF27-B7D29571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999B-09BF-4ABC-A18A-478F2865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7A80-8156-4CEB-B829-AEB7BA81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46D1-7A87-4EAB-AE48-BEC75D4F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C5C0-092F-4EF4-8CC9-97DFBC92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5BF7-C8DE-4971-B27A-7C896493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F5D-44D7-4EB1-8E57-5CB8313B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8FF3-AAFB-4BD6-8068-DD19818F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54B1-09CB-4FB9-9CD7-1D10DA5B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C27E-2F21-410E-AC6C-9B62282E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E840-CBBB-4239-992A-BC0B7B37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D247-630F-45B4-A2EB-8EA6A2C3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CAE-49E4-455E-845A-EF85D998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23C-F213-4EB0-A3C7-863C4566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10F-F678-44F4-B04B-0633550D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452-23E6-4170-9CE3-9CE4AB61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717-3DA8-4125-A377-E386ACE1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44D-49C7-4814-A69E-4E522E34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5F6-9B12-423D-97AD-7DF7311E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AD48-982B-49AF-9035-5BC16F25A4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334E-4FBB-477D-83E3-B1B15D3249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aditioninaction.org/bev/bevimages/bv046_Castro_ActdeRel_9-01.jpg&amp;imgrefurl=http://www.traditioninaction.org/bev/046bev12-31-2003.htm&amp;usg=__8HjlxK6ilklWf04hYarDLNo7OMg=&amp;h=405&amp;w=275&amp;sz=26&amp;hl=en&amp;start=9&amp;um=1&amp;tbnid=BJ1xVpi9eU6VOM:&amp;tbnh=124&amp;tbnw=84&amp;prev=/images%3Fq%3Ddemogogue%26hl%3Den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3.blogger.com/_-t4CIwXE1QQ/RvsVT7MT9SI/AAAAAAAAAQo/kJd8AoIofMU/s320/Jantzen_Anomalous.jpg&amp;imgrefurl=http://www.moreauartgalleries.com/%3Ftag%3Dimages&amp;usg=__ZH-p3wbmowUHmSKhIjvlJIaP25c=&amp;h=284&amp;w=320&amp;sz=13&amp;hl=en&amp;start=14&amp;um=1&amp;tbnid=QEw_Yw5M1gCmYM:&amp;tbnh=105&amp;tbnw=118&amp;prev=/images%3Fq%3Danomalous%26hl%3Den%26sa%3D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c02.deviantart.com/images3/i/2004/119/9/9/Bizzare.jpg&amp;imgrefurl=http://soundingcliche.blogspot.com/2007/07/debrief-day-one.html&amp;usg=__yN3tcckqR_ItezHi2S9eOCpOHbI=&amp;h=600&amp;w=800&amp;sz=84&amp;hl=en&amp;start=11&amp;um=1&amp;tbnid=fGkzreD6lII6vM:&amp;tbnh=107&amp;tbnw=143&amp;prev=/images%3Fq%3Dbizzare%26hl%3Den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photobucket.com/albums/v339/junk_sampan/sad-puppy-762578.jpg&amp;imgrefurl=http://www.myspace.com/pamelacarron&amp;usg=__ov5PVUCndi8Tt4cdGB_Clu6z0cY=&amp;h=380&amp;w=400&amp;sz=30&amp;hl=en&amp;start=32&amp;um=1&amp;tbnid=E8msiFI239EzpM:&amp;tbnh=118&amp;tbnw=124&amp;prev=/images%3Fq%3Dspaking%26ndsp%3D20%26hl%3Den%26sa%3DN%26start%3D20%26um%3D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erund is a verb form used as a nou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ing is an important part of life. Write 5 gerunds that describe something you like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tri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lan with ingenuity, invent, to bring about as the result of a scheme or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magogu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ader who exploits popular prejudices and makes false claims to get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3274920"/>
            <a:ext cx="33721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abu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ree from deception or error, set right in ideas o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29200" y="3048120"/>
            <a:ext cx="29336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nnu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riness and dissatisfaction from lack of occupation or interest, bor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4038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KA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research, presentations start tomo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essays due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cused Freewri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following sentences as the beginning of your free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 stared down at the egg in her hand. There was no other choice, she had to call    FBI headquar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-Week 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 a sentence if there isn’t one already.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omalou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normal, irregular, departing from the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438280"/>
            <a:ext cx="3505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spers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ing or derogatory statement, the act of slandering or def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izar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strange, unusual or atyp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2133720"/>
            <a:ext cx="4495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rusqu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rupt, blunt, with no form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jo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ax or persu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stig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unish severely, to criticize seve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2971800"/>
            <a:ext cx="3943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5:41:21Z</dcterms:created>
  <dc:creator>rebecca</dc:creator>
  <dc:description/>
  <dc:language>en-US</dc:language>
  <cp:lastModifiedBy>rebecca</cp:lastModifiedBy>
  <dcterms:modified xsi:type="dcterms:W3CDTF">2009-03-20T16:30:45Z</dcterms:modified>
  <cp:revision>2</cp:revision>
  <dc:subject/>
  <dc:title>DOL</dc:title>
</cp:coreProperties>
</file>